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3606-436F-441E-B9DB-7DCDDF888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32A6-C3AA-44E2-B8CA-CA046F9BB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2F5D-67AD-4668-947C-0A2FDBE5E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A5BC-CE3D-4B30-9E46-ED3C58084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E2F6-0B2C-45B5-9FE5-74CBFB13E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D595-D219-4BF6-9E99-4F89E0551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B889-ADDC-4E06-984A-6C29DAD22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A8F6-D87A-489D-A392-2A46364CD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0FE7-A25B-4E9B-B023-5FA4B385B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C156-E7DD-4663-A6B1-7C15CF56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6804-0411-4B48-A590-01728FB1A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AB11-7C01-46E3-A8FD-CFF80A1C2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132000" y="6427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4D76B-83AB-43CB-B8B3-2D8A16FA8086}" type="slidenum"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PHE_RD_ES Know How Ramp up.pp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2361960"/>
            <a:ext cx="85122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ff"/>
                </a:solidFill>
                <a:latin typeface="Minion"/>
              </a:rPr>
              <a:t>PHE RD </a:t>
            </a:r>
            <a:r>
              <a:rPr b="1" lang="zh-TW" sz="4800" spc="-1" strike="noStrike">
                <a:solidFill>
                  <a:srgbClr val="ffffff"/>
                </a:solidFill>
                <a:latin typeface="Minion"/>
              </a:rPr>
              <a:t>ES</a:t>
            </a:r>
            <a:endParaRPr b="1" lang="en-US" sz="4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409680" y="4981680"/>
            <a:ext cx="4572000" cy="13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J. Schmi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BMG PHE RD 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v1, 26.01.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4DD2-8822-41C6-89A5-B564AF259E3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00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In-sourcing of key Know How at PHE RD ES Munich: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197000"/>
            <a:ext cx="8305920" cy="496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a0e66"/>
                </a:solidFill>
                <a:uFillTx/>
                <a:latin typeface="Minion"/>
              </a:rPr>
              <a:t>Engineering service Munich: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2 additional headcount as replacement of 2 key external engineers, who are not willing to change to BenQ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Sun/Solaris/Unix/Linux and data mgmt. for config. mgmt. system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Windows OS/Active Directory/Novell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Target: replacement and know how transfer finished June 06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    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for know how transfer overlap of up to 3 month necessary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In-sourcing of 1 external engineer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User Hotline Management and VIP Support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Target ramp up finished: April 06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945A-315B-45AB-AE0E-6654B13928B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8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In-sourcing of key Know How at PHE RD ES Klf: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268280"/>
            <a:ext cx="8439120" cy="482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a0e66"/>
                </a:solidFill>
                <a:uFillTx/>
                <a:latin typeface="Minion"/>
              </a:rPr>
              <a:t>Engineering service Klf: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1 additional headcount as replacement of 1 key external engineer, who is not willing to change to BenQ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Unix/Linux and data mgmt. for config. mgmt. system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Target: replacement and know how transfer finished June 06 (best case)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     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for know how transfer overlap of up to 3 month necessary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In-sourcing of 2 external engineers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Windows OS/Active Directory/Novell/</a:t>
            </a:r>
            <a:r>
              <a:rPr b="0" lang="de-DE" sz="2000" spc="-1" strike="noStrike">
                <a:solidFill>
                  <a:srgbClr val="3a0e66"/>
                </a:solidFill>
                <a:latin typeface="Minion"/>
              </a:rPr>
              <a:t>Scripting/Backup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Target ramp up finished: April 06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73A9-27EB-4F1D-B05E-26DC31C87A8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791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Ramp up of Key Know How at PHE RD ES H: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836640"/>
            <a:ext cx="8305920" cy="36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a0e66"/>
                </a:solidFill>
                <a:uFillTx/>
                <a:latin typeface="Minion"/>
              </a:rPr>
              <a:t>Configuration management: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Status today: only 1 headcount in ES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683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3 additional headcount in Munich / Kamp-Lintfort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Methodology, concepts, strategy, tool design, scripting architectur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Coaching and alignment with sites and project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Scripting, tests, administration, 2nd level support, license mgmt.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Target ramp up finished: July 06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83C0-9D36-4979-82C8-8EA915E97CC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791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Ramp up of Key Know How at PHE RD ES H: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836640"/>
            <a:ext cx="8305920" cy="489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a0e66"/>
                </a:solidFill>
                <a:uFillTx/>
                <a:latin typeface="Minion"/>
              </a:rPr>
              <a:t>Requirements engineering (Doors):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Status today: only 1 headcount in E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7 External, thereof 2 from PBM supporting Key Know How (see below)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2 additional headcount in Munich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Methodology, concepts, strategy, tool design,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Coaching / training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Target ramp up finished: July 06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1CE7-0993-43A7-B250-729C26B37E1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791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Ramp up of Key Know How at PHE RD ES H: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830556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a0e66"/>
                </a:solidFill>
                <a:uFillTx/>
                <a:latin typeface="Minion"/>
              </a:rPr>
              <a:t>Project planning (Primavera):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Decided to be integrated in E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Transfer from Aal to Munich necessary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Status today: 6 engineers in Aal, thereof 2 planner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4 additional headcount in Munich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Methodology, concepts, strategy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Reports and Controlling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Coaching / training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Tool administration, hotline, 2nd and 3rd level support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Target ramp up finished: July 06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81E2-A1AD-4249-A757-FFF31B79C7F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791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Ramp up of Key Know How at PHE RD ES H: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830556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a0e66"/>
                </a:solidFill>
                <a:uFillTx/>
                <a:latin typeface="Minion"/>
              </a:rPr>
              <a:t>Further tools to be decided how to handle: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Introduction of Testdirector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Change Request light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Clear Quest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May need additional Know How ramp up in R&amp;D.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7088-2CD7-42D0-8506-F4F0FC5ADBA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8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Ramp up of Key Know How at PHE RD ES: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7646760" cy="85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a0e66"/>
                </a:solidFill>
                <a:uFillTx/>
                <a:latin typeface="Minion"/>
              </a:rPr>
              <a:t>Summarization of targets for headcount increase: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68360" y="2565360"/>
          <a:ext cx="8218440" cy="2524320"/>
        </p:xfrm>
        <a:graphic>
          <a:graphicData uri="http://schemas.openxmlformats.org/drawingml/2006/table">
            <a:tbl>
              <a:tblPr/>
              <a:tblGrid>
                <a:gridCol w="1044360"/>
                <a:gridCol w="1198800"/>
                <a:gridCol w="853920"/>
                <a:gridCol w="852480"/>
                <a:gridCol w="854280"/>
                <a:gridCol w="853920"/>
                <a:gridCol w="854280"/>
                <a:gridCol w="852480"/>
                <a:gridCol w="85392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Mrz 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Apr 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Mai 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Jun 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Jul 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Aug 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Sep 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ES M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ES Kl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ES 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Conf. Mgmt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ES 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Req. Mgmt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ES 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Primave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Sum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E772-C8FF-426A-A4C4-4887FE9AF94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Juergen Schmitz</cp:lastModifiedBy>
  <dcterms:modified xsi:type="dcterms:W3CDTF">2006-01-30T09:14:37Z</dcterms:modified>
  <cp:revision>125</cp:revision>
  <dc:subject/>
  <dc:title>PowerPoint 簡報</dc:title>
</cp:coreProperties>
</file>